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1A2C-55F1-4EEE-81BC-58AC79E99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6A47-4C58-48EC-B0A8-05444072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EE4D-3DD5-4892-9964-D6D8C58C6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4B2D-FD17-43F0-911D-045FC4A10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57CC-C30F-401D-AEEC-F45408E2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F42C-8B98-4284-8B65-B8414EA2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4D8C-3706-4FA9-9B8A-BB5229C7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4B2B-F724-41FF-954B-F34E23EC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C22B-D7AA-414C-AD65-07A27564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EE7D-DEA7-484A-B49E-CBDBC3BC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B59E-ED60-4097-8339-09D28035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8A95-EE11-48D3-8FC1-EB164E33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fd29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fd29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fd29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fd29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BC4C-ECDF-4E63-B4E9-D2394BA066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Asking Questions/</a:t>
            </a:r>
            <a:br>
              <a:rPr sz="4400"/>
            </a:b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Adding Details  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Writers use feedback from others </a:t>
            </a:r>
            <a:br>
              <a:rPr sz="3600"/>
            </a:b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to help develop their writing. 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One way to do this is to have your reader ask you questions about what you have written.</a:t>
            </a:r>
            <a:br>
              <a:rPr sz="3200"/>
            </a:b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A writer can use these questions to help add details to his or her writing. </a:t>
            </a:r>
            <a:br>
              <a:rPr sz="3200"/>
            </a:b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Let’s try one together. 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9T18:36:24Z</dcterms:created>
  <dc:creator>AAPS</dc:creator>
  <dc:description/>
  <dc:language>en-US</dc:language>
  <cp:lastModifiedBy>Carrie Dworkin</cp:lastModifiedBy>
  <dcterms:modified xsi:type="dcterms:W3CDTF">2005-08-12T15:38:40Z</dcterms:modified>
  <cp:revision>3</cp:revision>
  <dc:subject/>
  <dc:title>Asking Questions/Adding Details  </dc:title>
</cp:coreProperties>
</file>